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AE9-DD47-4595-8245-4D12C71B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0ED-C778-4F7E-98D4-8B0395BC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9F1-E8A5-40DF-B34F-18E1E028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B97-90EF-427A-B686-3CB5D9AF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5BF-C14D-4A26-B680-AF686CB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86C-D6CE-4071-8547-45C45A3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775-8503-47D7-8555-7E3A5238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C20-E103-4C46-9D38-F72F62CA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07E-66D9-4662-A6F6-00A7C477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BAD-56E9-4179-B640-AB3DABB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914-6897-411D-96B3-0F48E540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9E7-1C51-431A-88C9-77EFBF5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FAE-4E24-4794-AE5B-85B6289C5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7 Sláva tebe nekoneč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úci,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ma stále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om vo več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tvár smel stále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tebe nekoneč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rahý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, že si z lásky ku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skom kríži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lásku prenesmier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okážem vystihn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chcem stále kráč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áš viere zahy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úžiť, Pane, túži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tebe zasvä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zvesť o tom šír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hceš hriešnych zachrán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2:11Z</dcterms:modified>
  <cp:revision>32</cp:revision>
  <dc:subject/>
  <dc:title>Je veľký náš Pán, on slávy je Kráľ Nech do všetkých strán  spev vrúcnych znie chvál.</dc:title>
</cp:coreProperties>
</file>